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02A-7A64-474A-96CC-DA3E597B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1E5-2F18-49F5-923F-413A8A36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ECF-75C2-4777-B1FB-A5702280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C97-6A62-46FA-AAF8-CA5FD40C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C0D6-5592-4A9B-9ECA-7320139A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583-CEFA-4174-B1E1-F9214C57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DA0C-4770-405D-A84F-A50BC790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24D-3E68-48A1-8B6E-79BB5E0C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AF0B-B3E8-40D9-AB9D-6000201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D357-D080-41A3-AEB1-66ABA0F4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B613-597C-4B0F-A677-2A6E223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877-012F-4FD0-978F-F107B3C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F75F-83A6-467A-8A0E-EF72A16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C65-AEFD-436E-B233-809BF5D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4CE-BD15-4896-B3F8-BB3582E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C301-D7A8-42FC-8378-11CB16DB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94D-27B5-4750-9A1F-2AD3E54C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51B-463E-4374-A886-C5B11A0B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C09-09DC-45DA-A4F1-DBA13D48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C3-2843-44AF-B7AB-418D07F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3A5-59A6-45ED-B456-B1600719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F70-DF01-4280-B660-419FB07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981-73C2-4049-917B-F702944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A31-244C-43CB-99C4-D738382C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E4B-DA30-466D-BE7E-1A9FF829340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2A0-122D-4BAD-BFEC-EBB8D51DB9A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kvc20YpXAQ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8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ise of the Conserva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980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325" t="0" r="0" b="0"/>
          <a:stretch/>
        </p:blipFill>
        <p:spPr>
          <a:xfrm>
            <a:off x="762120" y="533520"/>
            <a:ext cx="74674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pply-side Econo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rease taxes and reduce spen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x cuts would increase private investments and stimulate the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rgest tax cuts to the highest inco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reg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duce the size and spending of the federal government by cutting back on the regulation of indust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iminated safety inspections on nursing homes, deregulated the airlines and Savings &amp; Loa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96480"/>
            <a:ext cx="8153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Social Welf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ut mass transit, food stamps, welfare benefits, job training, Medicaid, school lunches, and student loans (Cut domestic spending by over $40 billio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n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ndom drug testing at gov’t workpla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t off college loans and public housing to drug offen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i-drug education in schools “Just say NO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led drugs “our gravest domestic threat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ng sentences for drug offenders, death penalty for dealers, emphasis on stopping entry at b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ar on Drugs So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under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d to Affirmative Action; saw as reverse discrimin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posed abortion and E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Defense Sp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DI: Strategic Defense Initiative (Star Wars). Keep US safe from enemy missil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till Developing - 20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tional debt went from $900 billion to $4 trillion; interest payments on debt accounted for 21% of budget (more than budget for education, health, environment, agriculture, transportation, space, science, and technology combined!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4038480" cy="670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4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al vs. Conserv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1882800" cy="1650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1882800" cy="165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9880" y="3733920"/>
            <a:ext cx="1362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Liberalism is a belief that government has a responsibility to actively solve society’s problems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Conservative generally believes that individuals should be given more responsibility to make choices in the area of economics and society’s probl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8571" t="14437" r="857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Conserva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acklash against entitlements and Affirmative Action (reverse discrimination?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position to big government progra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utrage at hippie lifestyl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sire for security (Increase defense, limit immigratio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51055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they look pretty undocumented to m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of Conserv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rink the federal gover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duce spen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mote traditional morality and val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rengthen national defen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imulating business by reducing government regulations and lowering corporate tax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rvativ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alition: business leaders, frustrated middle-class voters, fundamentalist Christian grou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ected Ronald Reagan 198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e was an actor, simplified things, very comfortable in front of 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1980 Presidential commercia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9:20:32Z</dcterms:created>
  <dc:creator>School District U46</dc:creator>
  <dc:description/>
  <dc:language>en-US</dc:language>
  <cp:lastModifiedBy>School District U46</cp:lastModifiedBy>
  <dcterms:modified xsi:type="dcterms:W3CDTF">2013-04-22T12:55:49Z</dcterms:modified>
  <cp:revision>22</cp:revision>
  <dc:subject/>
  <dc:title>   Conservatism</dc:title>
</cp:coreProperties>
</file>